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11F-4085-4167-A429-133DA06A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FDA-1432-4BF8-9607-87024593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C8E-0A6A-47A0-B49C-63BF927D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144-99B9-4A15-BB94-5BAE808D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FA5-9F4F-4AA1-AFC3-6CE367F9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4CA-71AD-4106-AC90-219E1295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990-5FDD-4B66-BE27-0F5F45C4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1F5-E487-4665-96B9-B4F3F0E0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C18-D4D6-4F5F-A8CC-7FE71A31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C03-E27D-4947-B13E-26953CA1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89E-72DB-4045-AB5D-0EBDA76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F28-0D50-4049-B22F-599D0C3E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E99-19EA-4761-963E-F0215BF33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Probability &amp; Genet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1268280"/>
            <a:ext cx="914400" cy="87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5120" y="41911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ction 11-2 Probability and Punnett Squ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hat 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he likelihood a particular event will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in fl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nces of head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hances of ta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wo c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hances of two heads?  Two tails?  Heads &amp; ta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FM Universit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M University"/>
              </a:rPr>
              <a:t>2. Rule of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ast events do not affect future probabilities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INDEPEND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914400" cy="87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B. Punnett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sed to show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ssible outc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trait  according to the traits of the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What will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so show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How often it could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038840" cy="26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Example: Ee x 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quares represent possible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Each offspring gets one gene from “dad” (from the t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nd one gene from “Mom” (from the 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What % of the offspring will have free earlo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What % will have attached 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What % will be heterozygous for the tra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400800" y="2743200"/>
          <a:ext cx="2514600" cy="25146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858000" y="2133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43434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971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133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152388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352680"/>
            <a:ext cx="380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Fast Pattern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391520" cy="4419720"/>
        </p:xfrm>
        <a:graphic>
          <a:graphicData uri="http://schemas.openxmlformats.org/drawingml/2006/table">
            <a:tbl>
              <a:tblPr/>
              <a:tblGrid>
                <a:gridCol w="2463840"/>
                <a:gridCol w="2260440"/>
                <a:gridCol w="266724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ohybrid C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otype Ratio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T : Tt : t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otype Ratio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all : sh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659400" y="23623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9400" y="2819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40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0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940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0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94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9400" y="5029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9400" y="5638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76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7680" y="3352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76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000" y="3962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40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4000" y="5638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1:22:30Z</dcterms:created>
  <dc:creator>udsd</dc:creator>
  <dc:description/>
  <dc:language>en-US</dc:language>
  <cp:lastModifiedBy>udsd</cp:lastModifiedBy>
  <dcterms:modified xsi:type="dcterms:W3CDTF">2010-04-19T20:16:02Z</dcterms:modified>
  <cp:revision>6</cp:revision>
  <dc:subject/>
  <dc:title>Probability &amp; Genetics</dc:title>
</cp:coreProperties>
</file>